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8E1-C552-45F9-AD72-1ED0C390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D4D-263C-495E-A438-1E33A5D0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340-E9A8-4B08-89AC-D00D3EC6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9A3-D073-44E3-918F-BDB5C199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5D6E-6551-4DC7-BB93-24896F66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F900-8C52-41E7-8C12-EF5FD8F4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455C-393A-4719-B002-A7FF1A7B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3767-0B56-4A24-A0F5-1C5FDB85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6D39-8183-4053-92F4-19ECA70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CA72-D630-4107-9788-B3CDD25A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39FF-DE00-4D47-8360-51B4E98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C5D-7EAA-4EF8-9194-DD419EE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79C2-39CC-433A-A743-68CEE9B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C5A2-3202-488A-B005-2396B0C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9F92-97F1-4347-8DE0-36D95ED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C91B-072B-496A-9971-DACB754C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BE3-514F-4E79-BA6B-9DA5167C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4AB-54FE-48E2-B3D9-694D33ED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9018-7A55-41F6-A29D-E0839687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39E7-80FB-40DE-BAF4-A28D0863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77D-FB87-4D92-85A9-CE97E64A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D0B-F36B-4B21-A7BF-2DE9002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96D7-3498-449E-B355-EF4012EE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A61-9BB7-420A-A62C-710047D7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0E56-CE15-41E6-BC11-9B4C648BB0C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6B9-6F06-4C6C-A8A5-3F4D6A76790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25748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OnScreen</a:t>
            </a:r>
            <a:br>
              <a:rPr sz="66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ogramming</a:t>
            </a:r>
            <a:endParaRPr b="0" lang="en-US" sz="48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Ben Shep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Goto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se the goto command to go to another comman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lect the goto command and change the argument to the command number you want to go to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20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Dela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se the Delay command to make the RCX pause for the programmed amount of tim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t is used after an output or goto comman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lect the delay command and change the argument to the time wanted to wai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0 = 1 secon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21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219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Outpu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se the output command to turn on or off motor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lect the output command and use the command to change which motors go 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se the view button and move them to the arrows where you can change the direction of the motor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o turn all motors off, go to the argument section and press Program until it displays “–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Sample Program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0.14 d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ait 2 second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1.  8 o &gt; &gt; &gt;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Backwards all motors Power 8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2.14 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ait 14 second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3.   - o &gt; &gt; &gt;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top all motor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4.14 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ait 2 second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5.  8 o &lt; &lt; &lt;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orwards all motors Power 8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6.14 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ait 2 second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23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Sample Program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7.   - o &lt; &lt; &lt;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top all motor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8.14 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ait 2 second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09.00 g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o to step 00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s program will make a robot with tracks go backwards and forward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24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onte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4280" y="1794960"/>
            <a:ext cx="785988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Firmwa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struction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Got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ample Progra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121" name="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29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What is it?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8800" y="16002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nscreen programming for legomindstorms is a firmware that lets you program the RCX without the use of a computer. You simply use the Program and View buttons to make up your progra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onscreen programming program is given to you as a firmware which you download to your RCX using the infra red tower given to you when you purchase the Robotics invention syste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t works on the hex (base 16) system. 1,2,3,4,5,6,7,8,9,a,b,c,d,e,f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irmwar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40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75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o get the firmware into your RCX, I suggest using the SDK Softwa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et it from the Tips &amp; Tricks section on the legomindstorms sit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ut the firmware in the SDK directory and type in the new firmware box “onscreen.sre”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n click on the the New firmware button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Instruction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s the On/Off button on your RCX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screen should come up with the word Leg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s the Run button once to take you to the programming scree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You will notice there is a flashing cursor underneath  one of the number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51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Instruction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Screen is arranged in this way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S 12 C  A B 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S = Step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2  = Argument (s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   = Command (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lay,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O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tput,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G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to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161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utton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You will notice a flashing cursor underneath the number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View button moves the curso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Program button changes the selection above the cursor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Run button starts and stops the current program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171" name="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utton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en the cursor is under SS (step), pressing Program advances to the next step. The numbers show what step you are editing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181" name="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utton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en the cursor is under C (command), pressing Program changes the command There are three commands: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 = Got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 = Dela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 = Outpu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802560" y="5094360"/>
            <a:ext cx="2161080" cy="1683720"/>
            <a:chOff x="6802560" y="5094360"/>
            <a:chExt cx="2161080" cy="1683720"/>
          </a:xfrm>
        </p:grpSpPr>
        <p:sp>
          <p:nvSpPr>
            <p:cNvPr id="191" name=""/>
            <p:cNvSpPr/>
            <p:nvPr/>
          </p:nvSpPr>
          <p:spPr>
            <a:xfrm flipH="1" rot="1200000">
              <a:off x="7522560" y="6213240"/>
              <a:ext cx="31752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8100000">
              <a:off x="6901920" y="5195160"/>
              <a:ext cx="486000" cy="482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8100000">
              <a:off x="8109720" y="5925960"/>
              <a:ext cx="708120" cy="704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7280000">
              <a:off x="8219880" y="6362640"/>
              <a:ext cx="320760" cy="320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00000">
              <a:off x="7605720" y="540180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69040" y="5767560"/>
              <a:ext cx="649440" cy="347400"/>
            </a:xfrm>
            <a:custGeom>
              <a:avLst/>
              <a:gdLst/>
              <a:ahLst/>
              <a:rect l="l" t="t" r="r" b="b"/>
              <a:pathLst>
                <a:path w="409" h="219">
                  <a:moveTo>
                    <a:pt x="408" y="218"/>
                  </a:moveTo>
                  <a:lnTo>
                    <a:pt x="203" y="217"/>
                  </a:lnTo>
                  <a:lnTo>
                    <a:pt x="0" y="0"/>
                  </a:lnTo>
                  <a:lnTo>
                    <a:pt x="206" y="0"/>
                  </a:lnTo>
                  <a:lnTo>
                    <a:pt x="408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2920" y="5433840"/>
              <a:ext cx="315720" cy="31140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23:30:04Z</dcterms:created>
  <dc:creator>Ben Shepard</dc:creator>
  <dc:description/>
  <dc:language>en-US</dc:language>
  <cp:lastModifiedBy>Ben Shepard</cp:lastModifiedBy>
  <dcterms:modified xsi:type="dcterms:W3CDTF">2001-08-10T09:52:56Z</dcterms:modified>
  <cp:revision>24</cp:revision>
  <dc:subject>Lego Mindstorms</dc:subject>
  <dc:title>Programming Legomindstorms</dc:title>
</cp:coreProperties>
</file>